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FD91-89F0-4FBE-A24E-2F544907B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uring these sessions CAMPPPers, you will be introduced to some simple techniques to facilitate focused conversations with critical friends.  You will have the opportunity to practice these techniques wh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clic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reflecting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on your experiences to date and on your personal goals for attending CAMP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clic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selecting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an area of personal inquiry, aligning in a 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group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ith colleagues who share similar goals, and collaboratively developing a personalized product that will be valuable to you this coming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clic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Connecting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the four pillars of CAMPPP (Questioning to Differentiate Instruction, Big Ideas, Important Mathematics, or Student Struggles) with the personal product you're working towards through focused conversations with critical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0C8-570C-47BA-8DD1-E6E3D5E5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9E2-B2DE-48BC-9329-3C2B3C52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E7C-0E96-4E96-BF05-63367E32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A5E-2D08-4BAC-8B4E-4F2DCA56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AB17-E838-4B55-8D15-2A8B5CE4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1E3D-1340-4115-BF48-BCB47484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7062-432D-49A6-A31C-FDC359C1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B759-F3EF-458D-829A-C9DB12AA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FFCA-9457-4A73-8C67-C2EB5B5D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89DA-B2B7-4573-BB3B-FB2DFA44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2E18-F47A-4575-9D0B-348E2B83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880-7DBB-4643-9C6C-89F00C46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18D7-3638-483E-83A4-749B178D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1EC8-88C4-4065-A7F6-255E2357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7724-A7BF-4D41-962E-13412A8E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4067-CCAF-4AE1-AA40-57348CE7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CFAE-4C3D-4589-8BD9-DDBB23E9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A32-7624-4273-9F91-8C09FE30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8AA-BEDF-4110-BFCC-9F52CE3C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83D-D3C8-4586-B041-A0D6A5DF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6EA9-DC87-4FBD-8DEE-62BDAA76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14B-30F5-4E78-AEAB-C45BFB5F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D25-7AE6-4088-A251-F045C359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509-0EF7-408E-BF7B-A8CEA6F1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6D92-7094-45FE-9CD2-6D6660AD2B9C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6120" y="512640"/>
            <a:ext cx="7121520" cy="11448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91400" y="4428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716C-4BC3-4344-91D7-4FFBFE4518A7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14560" y="3070080"/>
            <a:ext cx="5113440" cy="233856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97560" y="5391000"/>
            <a:ext cx="3276720" cy="13338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35440" y="1735200"/>
            <a:ext cx="3276360" cy="133344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0040" y="561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    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cused Conversations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</a:t>
            </a:r>
            <a:br>
              <a:rPr sz="2000"/>
            </a:b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with critical friends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15080" y="580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7360" y="5423040"/>
            <a:ext cx="3276720" cy="1333440"/>
          </a:xfrm>
          <a:prstGeom prst="ellipse">
            <a:avLst/>
          </a:prstGeom>
          <a:solidFill>
            <a:srgbClr val="ff4f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46000" y="57895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68520" y="21319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l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3521160"/>
            <a:ext cx="197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1" lang="en-CA" sz="3200" spc="-1" strike="noStrike">
                <a:solidFill>
                  <a:srgbClr val="33ccff"/>
                </a:solidFill>
                <a:latin typeface="Arial"/>
              </a:rPr>
              <a:t>G</a:t>
            </a:r>
            <a:r>
              <a:rPr b="1" lang="en-CA" sz="3200" spc="-1" strike="noStrike">
                <a:solidFill>
                  <a:srgbClr val="f5e571"/>
                </a:solidFill>
                <a:latin typeface="Arial"/>
              </a:rPr>
              <a:t>A</a:t>
            </a:r>
            <a:r>
              <a:rPr b="1" lang="en-CA" sz="3200" spc="-1" strike="noStrike">
                <a:solidFill>
                  <a:srgbClr val="cc3399"/>
                </a:solidFill>
                <a:latin typeface="Arial"/>
              </a:rPr>
              <a:t>I</a:t>
            </a:r>
            <a:r>
              <a:rPr b="1" lang="en-CA" sz="3200" spc="-1" strike="noStrike">
                <a:solidFill>
                  <a:srgbClr val="99ff99"/>
                </a:solidFill>
                <a:latin typeface="Arial"/>
              </a:rPr>
              <a:t>N</a:t>
            </a:r>
            <a:r>
              <a:rPr b="1" lang="en-CA" sz="3200" spc="-1" strike="noStrike">
                <a:solidFill>
                  <a:srgbClr val="e70308"/>
                </a:solidFill>
                <a:latin typeface="Arial"/>
              </a:rPr>
              <a:t>S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AMP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eel District School Board</cp:lastModifiedBy>
  <dcterms:modified xsi:type="dcterms:W3CDTF">2009-07-24T14:01:10Z</dcterms:modified>
  <cp:revision>99</cp:revision>
  <dc:subject/>
  <dc:title>Slide 1</dc:title>
</cp:coreProperties>
</file>